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145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i-FI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B4AD27A-B6E4-47AE-B696-CB9EF5BDBF76}" type="slidenum">
              <a:rPr b="0" lang="fi-FI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223A29A-8C48-49F9-A725-6BBC08EE2192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EDE7BAA-7CF2-404F-B2C5-CA8401B9CB0C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01F-0DF7-43F9-BCC4-8CB51D3A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798-0D03-483B-A450-E17F6A0C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EA7-6E2D-4FC9-AFB7-3F5B454A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F3A-1D34-4345-BA9C-91670B1D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FA793-A32E-4EAE-9912-5641E109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9941E-0BC5-4B08-BC2C-DE22E24D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936AF-F2FA-4FDB-87F0-6C83FA2A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DAA98-DF6B-4EC4-8DE9-83225EDB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5DC65-3C9A-40AB-AD57-6B21C3A2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1C822-F398-4242-84E0-CFD11F57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4A23C-874A-4281-94EB-2A215E39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8FA-AD0B-40C0-8F60-DB085567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604E1-ACC4-4000-B32E-BBE24D9F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DACAC-2C3E-4443-A61E-8B9E0991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76BC0-74F4-484B-BC6D-85D1A70B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2F4C1-2E09-4AD0-83CD-D72111EC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FCEF3-C336-4ACA-96F7-610F1B1E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63B9B-287B-44D0-BE75-3E834F1C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28565-AD26-429F-B5BA-0C3661CA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E2D2-A6AB-4890-BA4C-E770458C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78A1-0999-46A1-ADA2-35FB2D6E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B468-4648-4906-8950-70062759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F40-111A-4AE9-9FEA-B7255974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75E5B-FD4B-4AB1-BD1E-CAA5EAD7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D52E-0811-479E-8BDC-910E2984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6113-5A6C-4758-9ACA-9D3E1C7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BA247-F6B5-4A45-BCB3-8E43DA1B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DDCF-9AB5-41EE-97D3-9CBF7C5E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95B14-B6B9-4FEF-967B-5271C991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47D4F-0484-4426-95A5-EC650EB6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16CE6-5E64-4CFE-82E3-506AAAEB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C554-91BA-433E-80A6-93555CF1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7BF5F-0D3A-4F00-80A6-1C006E36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970-C073-4555-9998-DE891340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B9C0F-E385-4FEB-84D7-D3BE0DD5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87C01-B562-4835-BF84-967ECB78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6CE3D-1719-4C04-A580-A5F940D2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9FB9-618C-4D77-9FEB-D9F1F272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AA244-4AF7-4DD3-8D19-C41A0591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CEFF3-F5F3-4556-B4FF-434B3190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56D55-A17F-4453-A262-C02E9A1D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37831-65F5-41CA-A580-C1B034D7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9A165-34EF-4D80-8F9C-4C4B85CB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6C872-FFC3-4FD6-8EA4-9180F6D9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AF1-0D51-4CB6-8643-900F6D2A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48A03-F9F3-4939-980C-970697F8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8E86A-AB25-4D25-A2A6-3ED7A2AC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7DC97-CE3A-47D2-9A4B-DCB6F2B8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E405C-3E4E-45D2-ADF4-D8938EFE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C18CD-407A-417B-BC92-BF3E115E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62A7C-31FE-423B-8F4E-FB7A6F25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40DCE-43D7-4466-AF55-AD8E6F5F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A49D1-003B-4FAD-AF10-E5E98C1F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4D98D-215D-4DC5-BCB8-9BBB7760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D4696-A1A6-4DC9-B8EE-4635E5D3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DC0-3921-4241-8B1F-D9501988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9101F-961B-4B06-9A0E-8923A7FE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3FD-1852-4339-92D9-AA59788C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F5F-90CA-4575-A59A-98B33BBC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C04-4EAC-4017-AF0C-530A3BD0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16E6-6320-4A2E-B265-CB95DF6C9157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5" name="Picture 10" descr="SHORT_THL_LOGO_RGB_large.jpg"/>
          <p:cNvPicPr/>
          <p:nvPr/>
        </p:nvPicPr>
        <p:blipFill>
          <a:blip r:embed="rId2"/>
          <a:stretch/>
        </p:blipFill>
        <p:spPr>
          <a:xfrm>
            <a:off x="3124080" y="4038480"/>
            <a:ext cx="2603520" cy="1063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7" name="Picture 14" descr="THL_KV_LOGO_PPT.JPG"/>
          <p:cNvPicPr/>
          <p:nvPr/>
        </p:nvPicPr>
        <p:blipFill>
          <a:blip r:embed="rId3"/>
          <a:stretch/>
        </p:blipFill>
        <p:spPr>
          <a:xfrm>
            <a:off x="2209680" y="5226120"/>
            <a:ext cx="4572000" cy="226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B525-4A5A-4847-85D1-ED2D845ADEFF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6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9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92" name="Suorakulmio 6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67CC-15E2-4C17-BBB5-2C47D029B463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35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Suorakulmio 7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553A-4B50-49D1-90B6-C7DF9F60E5FA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8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82" name="Suorakulmio 5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BC3C-B0E0-47F5-B7F4-5B8A6B6015F6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0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7DFA-617E-4C9D-AFC8-6607CE29580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43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RAC</a:t>
            </a:r>
            <a:r>
              <a:rPr b="1" lang="fi-FI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 Agency Risk Assessment Conferenc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68360" y="2631600"/>
            <a:ext cx="82072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he Finnish experiences since 2010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3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74" name="Picture 7" descr="ylabanneri_7.jpg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Aims of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authorities/agencie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hare information between authorities to increase the safety, health and well-being of victims and their childre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 the risk of har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, cut costs of violence, decrease unnecessary work, improve follow-up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victi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Reduce repeat victimization/reoccurrence of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rove the safety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f the victim of domestic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0876-2521-464B-9D4F-78F1AE73BC6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8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9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56AC-A841-4EF2-9D24-FD8AA493C03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0" name="Pyöristetty suorakulmio 4"/>
          <p:cNvSpPr/>
          <p:nvPr/>
        </p:nvSpPr>
        <p:spPr>
          <a:xfrm>
            <a:off x="2805120" y="246240"/>
            <a:ext cx="2305080" cy="10951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Identify the Victim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1" name="Pyöristetty suorakulmio 5"/>
          <p:cNvSpPr/>
          <p:nvPr/>
        </p:nvSpPr>
        <p:spPr>
          <a:xfrm>
            <a:off x="2805120" y="1557360"/>
            <a:ext cx="2305080" cy="100800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Do the Risk Assessment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(MARAC form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2" name="Pyöristetty suorakulmio 6"/>
          <p:cNvSpPr/>
          <p:nvPr/>
        </p:nvSpPr>
        <p:spPr>
          <a:xfrm>
            <a:off x="1258920" y="2708280"/>
            <a:ext cx="1657440" cy="1015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not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3" name="Alanuoli 7"/>
          <p:cNvSpPr/>
          <p:nvPr/>
        </p:nvSpPr>
        <p:spPr>
          <a:xfrm rot="2700000">
            <a:off x="3080880" y="2733120"/>
            <a:ext cx="432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4" name="Alanuoli 8"/>
          <p:cNvSpPr/>
          <p:nvPr/>
        </p:nvSpPr>
        <p:spPr>
          <a:xfrm rot="18900000">
            <a:off x="4379760" y="2733840"/>
            <a:ext cx="432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5" name="Pyöristetty suorakulmio 9"/>
          <p:cNvSpPr/>
          <p:nvPr/>
        </p:nvSpPr>
        <p:spPr>
          <a:xfrm>
            <a:off x="5003640" y="2708280"/>
            <a:ext cx="1656000" cy="1015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is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6" name="Pyöristetty suorakulmio 10"/>
          <p:cNvSpPr/>
          <p:nvPr/>
        </p:nvSpPr>
        <p:spPr>
          <a:xfrm>
            <a:off x="1035000" y="4038480"/>
            <a:ext cx="1160640" cy="1152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7" name="Pyöristetty suorakulmio 11"/>
          <p:cNvSpPr/>
          <p:nvPr/>
        </p:nvSpPr>
        <p:spPr>
          <a:xfrm>
            <a:off x="5003640" y="3951360"/>
            <a:ext cx="129708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Ask for consent for MARAC team handling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8" name="Pyöristetty suorakulmio 12"/>
          <p:cNvSpPr/>
          <p:nvPr/>
        </p:nvSpPr>
        <p:spPr>
          <a:xfrm>
            <a:off x="6408720" y="3936960"/>
            <a:ext cx="1116000" cy="115092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150920"/>
              <a:gd name="textAreaBottom" fmla="*/ 1096560 h 1150920"/>
            </a:gdLst>
            <a:ahLst/>
            <a:rect l="textAreaLeft" t="textAreaTop" r="textAreaRight" b="textAreaBottom"/>
            <a:pathLst>
              <a:path w="21600" h="22276">
                <a:moveTo>
                  <a:pt x="3600" y="0"/>
                </a:moveTo>
                <a:arcTo wR="3600" hR="3600" stAng="16200000" swAng="-5400000"/>
                <a:lnTo>
                  <a:pt x="0" y="18676"/>
                </a:lnTo>
                <a:arcTo wR="3600" hR="3600" stAng="10800000" swAng="-5400000"/>
                <a:lnTo>
                  <a:pt x="18000" y="222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 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9" name="Pyöristetty suorakulmio 13"/>
          <p:cNvSpPr/>
          <p:nvPr/>
        </p:nvSpPr>
        <p:spPr>
          <a:xfrm>
            <a:off x="7667640" y="3951360"/>
            <a:ext cx="1081080" cy="11523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152360"/>
              <a:gd name="textAreaBottom" fmla="*/ 1099800 h 1152360"/>
            </a:gdLst>
            <a:ahLst/>
            <a:rect l="textAreaLeft" t="textAreaTop" r="textAreaRight" b="textAreaBottom"/>
            <a:pathLst>
              <a:path w="21600" h="23024">
                <a:moveTo>
                  <a:pt x="3600" y="0"/>
                </a:moveTo>
                <a:arcTo wR="3600" hR="3600" stAng="16200000" swAng="-5400000"/>
                <a:lnTo>
                  <a:pt x="0" y="19424"/>
                </a:lnTo>
                <a:arcTo wR="3600" hR="3600" stAng="10800000" swAng="-5400000"/>
                <a:lnTo>
                  <a:pt x="18000" y="23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Offer contact to victim support 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0" name="Alanuoli 14"/>
          <p:cNvSpPr/>
          <p:nvPr/>
        </p:nvSpPr>
        <p:spPr>
          <a:xfrm rot="2700000">
            <a:off x="5181840" y="5301000"/>
            <a:ext cx="432000" cy="503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1" name="Pyöristetty suorakulmio 15"/>
          <p:cNvSpPr/>
          <p:nvPr/>
        </p:nvSpPr>
        <p:spPr>
          <a:xfrm>
            <a:off x="2698920" y="5133960"/>
            <a:ext cx="2304720" cy="11527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Post the MARAC form and the consent form to the local MARAC team’s secret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e MARAC process 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4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2447-20CA-406E-B663-4BCDF2CB84B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754680" cy="4620960"/>
          </a:xfrm>
          <a:prstGeom prst="rect">
            <a:avLst/>
          </a:prstGeom>
          <a:ln w="0">
            <a:noFill/>
          </a:ln>
        </p:spPr>
      </p:pic>
      <p:sp>
        <p:nvSpPr>
          <p:cNvPr id="347" name="Nuoli oikealle 6"/>
          <p:cNvSpPr/>
          <p:nvPr/>
        </p:nvSpPr>
        <p:spPr>
          <a:xfrm>
            <a:off x="468360" y="2090880"/>
            <a:ext cx="934920" cy="5745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439560" y="3645000"/>
            <a:ext cx="963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0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1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E9B5-84D9-400E-A716-AF99D59F632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004760" y="23760"/>
            <a:ext cx="7134480" cy="5886360"/>
          </a:xfrm>
          <a:prstGeom prst="rect">
            <a:avLst/>
          </a:prstGeom>
          <a:ln w="0">
            <a:noFill/>
          </a:ln>
        </p:spPr>
      </p:pic>
      <p:sp>
        <p:nvSpPr>
          <p:cNvPr id="353" name="Tekstiruutu 4"/>
          <p:cNvSpPr/>
          <p:nvPr/>
        </p:nvSpPr>
        <p:spPr>
          <a:xfrm>
            <a:off x="324000" y="692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The risk assesment form is a tool for mapping violence: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isk Indicator Checklis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355" name="Sisällön paikkamerkki 2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45520" cy="4992480"/>
          </a:xfrm>
          <a:prstGeom prst="rect">
            <a:avLst/>
          </a:prstGeom>
          <a:ln w="0">
            <a:noFill/>
          </a:ln>
        </p:spPr>
      </p:pic>
      <p:sp>
        <p:nvSpPr>
          <p:cNvPr id="35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7" name="Alatunnisteen paikkamerkki 4"/>
          <p:cNvSpPr/>
          <p:nvPr/>
        </p:nvSpPr>
        <p:spPr>
          <a:xfrm>
            <a:off x="1541520" y="6597720"/>
            <a:ext cx="604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7176-AEA1-49FA-B805-3EF7320D993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n example of the MARAC-team’s Agenda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88560"/>
            <a:ext cx="821844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genda of the MARAC-team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Time: Wednesday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28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1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2018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 at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3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0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Place: </a:t>
            </a:r>
            <a:r>
              <a:rPr b="0" lang="lt-LT" sz="1800" spc="-1" strike="noStrike">
                <a:solidFill>
                  <a:srgbClr val="303030"/>
                </a:solidFill>
                <a:latin typeface="Arial"/>
              </a:rPr>
              <a:t>Leona Paegles 1, Cesi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Opening of the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pproval of Agenda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Minutes of previous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omination of Chair and Secretary for 2018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Status of case 9/2017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KM1/2018, presented by polic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HK 2/2018, presented by social services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xt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Closing of the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4ABA-8747-4DF0-BE50-8BE821BB67C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sults of the model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2828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UK police: MARAC decreased reoccurring of domestic violence cases by 2/3 (2004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Cardiff: 60 % of victims handled by MARAC did not face reoccurrance of violence in the following 6 months (2004, 2009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Finland, after 6 months of entering MARAC, 15 % of victims had faced reoccurrence of domestic violence (when 6 months prior to entering, likelyhood of reoccurrance was at 60% level), thus, MARAC reduced reoccurring crime offence reports by over 70 %  (2015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C3CB-DB9E-45AB-ABDD-4E8E5423FA5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THL study of the effectivity (2010-2015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ata collection: Police records, victim interview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382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cases have been referred to MARAC in Finland during 1.10.2010-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0.3.2015 , who gave consent to use data in the study (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95 % of victims are wome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Police files were pulled six months after the MARAC was held (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N=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03030"/>
                </a:solidFill>
                <a:latin typeface="Arial"/>
              </a:rPr>
              <a:t>365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terviews (n=70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D848-BAA6-46DE-BACE-D5CF9EE049E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ge of the victim referred to MARAC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484280"/>
          <a:ext cx="8218440" cy="296712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-2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5-3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-4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5-5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5-6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Not specified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8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</a:tbl>
          </a:graphicData>
        </a:graphic>
      </p:graphicFrame>
      <p:sp>
        <p:nvSpPr>
          <p:cNvPr id="37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F0A5-C854-40E9-A48A-A0A46FC83E11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9" name="Tekstiruutu 8"/>
          <p:cNvSpPr/>
          <p:nvPr/>
        </p:nvSpPr>
        <p:spPr>
          <a:xfrm>
            <a:off x="1289880" y="5181480"/>
            <a:ext cx="43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Most often victims are 25-44 years ol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eoccurrence of violence and abuse</a:t>
            </a:r>
            <a:br>
              <a:rPr sz="2800"/>
            </a:b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(recorded before and 6 months after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484280"/>
          <a:ext cx="8218440" cy="231156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.2010-30.3.201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6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prior to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32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6 months after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</a:tbl>
          </a:graphicData>
        </a:graphic>
      </p:graphicFrame>
      <p:sp>
        <p:nvSpPr>
          <p:cNvPr id="3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5CD9-E5E4-4588-99D8-1062B25344B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5" name="Tekstiruutu 7"/>
          <p:cNvSpPr/>
          <p:nvPr/>
        </p:nvSpPr>
        <p:spPr>
          <a:xfrm>
            <a:off x="1163160" y="4537080"/>
            <a:ext cx="72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Re-</a:t>
            </a:r>
            <a:r>
              <a:rPr b="0" lang="en-GB" sz="1800" spc="-1" strike="noStrike">
                <a:solidFill>
                  <a:srgbClr val="303030"/>
                </a:solidFill>
                <a:latin typeface="Arial"/>
                <a:ea typeface="Arial"/>
              </a:rPr>
              <a:t>victimisation was reduced in more than 70 per cent of the case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Structure of the presentation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y: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Prevalence and impact of violence against women and domestic violence in Europe 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at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is MARAC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How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MARAC works and our experiences of its effectivity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8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9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4757-9821-410A-965D-856E9346BC2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4576-A8DC-4A51-9DE7-07BEC5606B1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9" name="Tekstiruutu 4"/>
          <p:cNvSpPr/>
          <p:nvPr/>
        </p:nvSpPr>
        <p:spPr>
          <a:xfrm>
            <a:off x="755640" y="907920"/>
            <a:ext cx="287964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0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MARAC in Finland in 2017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overs over 2,5 million inhabitants (population of 5,4 millio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4 MARAC teams function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Over 100 municipalities, 1-3 in each County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90" name="Kuva 5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Key factors for succeeding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303030"/>
                </a:solidFill>
                <a:uFillTx/>
                <a:latin typeface="Arial"/>
              </a:rPr>
              <a:t>When adapting the model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eparat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funds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/project funds necessary for start-up/pilot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For the model to work, asking about violence should be mad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routine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 in client encounters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ystematic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training of professionals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rucia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Winning over the hearts and minds of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uperior(s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F154-03C0-458F-AC4A-336AFF54D55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with regard to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nland ratified the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Istanbul Convention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(CoE Convention on preventing and combating violence against women and domestic violence) in 1.8.2015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bligates the state to fully address Violence against Women it in all its forms and to take measure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violence against wom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tec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its victim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secute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the perpetrators.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18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ective multi-agency collaboratio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51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sk assessment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nd risk managemen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D0CD-43F9-4A3D-8AAD-AD15F4D5374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(continues)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New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ocial Welfare Act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orce 1.4.2015. 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Obligates the local municipalities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vide services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o a person encountering violence, incl. Domestic and Interpersonal Violence.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e Act on reimbursement out of State funds for providers of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helters for victims of domestic violenc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rce 1.1.2015.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financed by the state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uarantees qualitative and comprehensive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rvices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en for anyone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– women, men and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hildren of all ages – who have experienced acts or are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reatened by acts of domestic violence. (Children usually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tay in the shelter with their parent.)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A3D7-D999-4B3C-B8BC-8B945D106F8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7A16-3C61-40C4-BFEA-021A5C65E67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843280" y="289080"/>
            <a:ext cx="3456000" cy="6279840"/>
          </a:xfrm>
          <a:prstGeom prst="rect">
            <a:avLst/>
          </a:prstGeom>
          <a:ln w="0">
            <a:noFill/>
          </a:ln>
        </p:spPr>
      </p:pic>
      <p:sp>
        <p:nvSpPr>
          <p:cNvPr id="410" name="Tekstiruutu 4"/>
          <p:cNvSpPr/>
          <p:nvPr/>
        </p:nvSpPr>
        <p:spPr>
          <a:xfrm>
            <a:off x="324000" y="1484280"/>
            <a:ext cx="419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Shelters in Finland 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in 2017: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Now 143 places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T.b. Increased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Funding +40 %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ank you!</a:t>
            </a:r>
            <a:br>
              <a:rPr sz="3600"/>
            </a:b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9280" y="378936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martta.october@thl.fi, +358 29 524 7710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thl.fi/marak (mostly in Finnish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safelives.org.uk (MARAC info/UK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DE0E-D68A-43E0-9EBB-A64460AE170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16" name="Picture 2" descr="M:\_Pictures\pöllöt.PNG"/>
          <p:cNvPicPr/>
          <p:nvPr/>
        </p:nvPicPr>
        <p:blipFill>
          <a:blip r:embed="rId1"/>
          <a:stretch/>
        </p:blipFill>
        <p:spPr>
          <a:xfrm>
            <a:off x="1593720" y="1052640"/>
            <a:ext cx="5913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5640" y="-150120"/>
            <a:ext cx="7559640" cy="4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v-LV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81" name="Sisällön paikkamerkki 6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165720"/>
          </a:xfrm>
          <a:prstGeom prst="rect">
            <a:avLst/>
          </a:prstGeom>
          <a:ln w="0">
            <a:noFill/>
          </a:ln>
        </p:spPr>
      </p:pic>
      <p:sp>
        <p:nvSpPr>
          <p:cNvPr id="2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74C5-9023-4A6F-A25A-E8CBD6616C45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6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7466-599F-4A8A-A7A3-8CDBDBD0B1A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88" name="Kuva 4" descr=""/>
          <p:cNvPicPr/>
          <p:nvPr/>
        </p:nvPicPr>
        <p:blipFill>
          <a:blip r:embed="rId1"/>
          <a:stretch/>
        </p:blipFill>
        <p:spPr>
          <a:xfrm>
            <a:off x="609480" y="0"/>
            <a:ext cx="791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Domestic violence (even only between parents) is an ACE (Adverse Childhood Experience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90" name="Sisällön paikkamerkki 7" descr=""/>
          <p:cNvPicPr/>
          <p:nvPr/>
        </p:nvPicPr>
        <p:blipFill>
          <a:blip r:embed="rId1"/>
          <a:stretch/>
        </p:blipFill>
        <p:spPr>
          <a:xfrm>
            <a:off x="900000" y="1339920"/>
            <a:ext cx="6985080" cy="4951440"/>
          </a:xfrm>
          <a:prstGeom prst="rect">
            <a:avLst/>
          </a:prstGeom>
          <a:ln w="0">
            <a:noFill/>
          </a:ln>
        </p:spPr>
      </p:pic>
      <p:sp>
        <p:nvSpPr>
          <p:cNvPr id="29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41EA-005A-400D-9143-4624CDF9FF4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519b2f"/>
                </a:solidFill>
                <a:latin typeface="Arial"/>
              </a:rPr>
              <a:t>Homicides in Intimate partner relationships in Finland</a:t>
            </a:r>
            <a:endParaRPr b="1" lang="en-US" sz="32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95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6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7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A8CB-9CBF-4950-8686-8324B4357A26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397160" y="1674720"/>
            <a:ext cx="63388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Violence against women in intimate partner relations </a:t>
            </a:r>
            <a:br>
              <a:rPr sz="2800"/>
            </a:b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– the whole pictur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0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1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2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4F11-72BC-421C-AF53-67ED1549E475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54800" cy="4068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tretch/>
        </p:blipFill>
        <p:spPr>
          <a:xfrm>
            <a:off x="2073240" y="309564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tretch/>
        </p:blipFill>
        <p:spPr>
          <a:xfrm>
            <a:off x="1447920" y="4229280"/>
            <a:ext cx="804600" cy="158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tretch/>
        </p:blipFill>
        <p:spPr>
          <a:xfrm>
            <a:off x="7770960" y="3174840"/>
            <a:ext cx="128520" cy="1694160"/>
          </a:xfrm>
          <a:prstGeom prst="rect">
            <a:avLst/>
          </a:prstGeom>
          <a:ln w="0">
            <a:noFill/>
          </a:ln>
        </p:spPr>
      </p:pic>
      <p:sp>
        <p:nvSpPr>
          <p:cNvPr id="308" name="Tekstiruutu 6"/>
          <p:cNvSpPr/>
          <p:nvPr/>
        </p:nvSpPr>
        <p:spPr>
          <a:xfrm>
            <a:off x="324000" y="2060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21/year on averag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2003-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9" name="Tekstiruutu 8"/>
          <p:cNvSpPr/>
          <p:nvPr/>
        </p:nvSpPr>
        <p:spPr>
          <a:xfrm>
            <a:off x="755640" y="27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300/year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in 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0" name="Tekstiruutu 9"/>
          <p:cNvSpPr/>
          <p:nvPr/>
        </p:nvSpPr>
        <p:spPr>
          <a:xfrm>
            <a:off x="324000" y="386064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10 % of al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victim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1" name="Tekstiruutu 10"/>
          <p:cNvSpPr/>
          <p:nvPr/>
        </p:nvSpPr>
        <p:spPr>
          <a:xfrm>
            <a:off x="324000" y="4869000"/>
            <a:ext cx="23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0% of females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over the age of 15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2" name="Tekstiruutu 11"/>
          <p:cNvSpPr/>
          <p:nvPr/>
        </p:nvSpPr>
        <p:spPr>
          <a:xfrm>
            <a:off x="6732720" y="1628640"/>
            <a:ext cx="480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nnually 8 %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f the people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 intimate partner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relationship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(approx. 100 000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4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5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6BEA-757E-4C8E-AF47-49718A9E173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09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What is MARAC?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MARAC is a local, multi agency victim-focused meeting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e risk assessment process is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ult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ctim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ious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omestic violence/abus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the meetings information is shared on the highest risk cases of domestic violence and abuse between different statutory and voluntary sector agencie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Finland, MARAC procedures and standards for operating MARAC meetings are coordinated by THL (National Institute for Health and Welfare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Video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 u="sng">
                <a:solidFill>
                  <a:srgbClr val="303030"/>
                </a:solidFill>
                <a:uFillTx/>
                <a:latin typeface="Arial"/>
              </a:rPr>
              <a:t>https://www.youtube.com/watch?v=alje4zJOHIw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0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1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86D6-F2C0-4FD5-8DEA-9E2E62965049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7:05Z</dcterms:created>
  <dc:creator>Jaakko Säkö</dc:creator>
  <dc:description/>
  <dc:language>en-US</dc:language>
  <cp:lastModifiedBy>Laura Kornete</cp:lastModifiedBy>
  <cp:lastPrinted>2018-11-28T07:41:21Z</cp:lastPrinted>
  <dcterms:modified xsi:type="dcterms:W3CDTF">2019-04-03T07:49:52Z</dcterms:modified>
  <cp:revision>95</cp:revision>
  <dc:subject>suomi</dc:subject>
  <dc:title>Dia 1</dc:title>
</cp:coreProperties>
</file>